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1B9-0CF8-4831-881A-2D4BCEE6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EC2-7A9B-41EB-B37C-EA4B3943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5E6-376D-417C-AD59-816DC15B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6C2-5BB6-4851-8CBC-B62259CB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3E0-3BEC-4EF2-9602-635AB6A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0F9-9099-400D-8028-1DF05E0C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2F4-FCDC-4155-9AC6-8678FFC6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D77-1E20-494D-B64F-AB77FBF4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44D-583D-4946-ACEE-A8B82222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B01-F549-4610-9D04-F149F8B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D8A-2EAA-4E3E-AEA1-757AB63D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911-0781-41D6-85CD-D05EF50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A487-E6D6-4316-A34A-AE198E1BC5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692360" y="83664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数学广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\\192.168.1.3\临时中转站1_以本人姓名建目录\开发中心-多媒体部\02美术部\晨会文件\04宁煌\人教数学教参\08.png"/>
          <p:cNvPicPr/>
          <p:nvPr/>
        </p:nvPicPr>
        <p:blipFill>
          <a:blip r:embed="rId1"/>
          <a:stretch/>
        </p:blipFill>
        <p:spPr>
          <a:xfrm>
            <a:off x="682560" y="95256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730080" y="2131920"/>
            <a:ext cx="4111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76164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方法，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31640" y="4814280"/>
            <a:ext cx="807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可以怎样付钱”是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92040" y="1498680"/>
            <a:ext cx="72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变化思考，迁移应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0200" y="4372920"/>
            <a:ext cx="807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都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31640" y="5255640"/>
            <a:ext cx="807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打算怎样付钱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31640" y="5732640"/>
            <a:ext cx="8072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看看大家想出的付钱方法，以后再遇到这样的问题我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怎样去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346560" y="6084360"/>
            <a:ext cx="495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注意方法的渗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85385"/>
          <p:cNvSpPr/>
          <p:nvPr/>
        </p:nvSpPr>
        <p:spPr>
          <a:xfrm>
            <a:off x="1554120" y="2205000"/>
            <a:ext cx="540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拼音本，可以怎样付钱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485386" descr="未标题-16"/>
          <p:cNvPicPr/>
          <p:nvPr/>
        </p:nvPicPr>
        <p:blipFill>
          <a:blip r:embed="rId1"/>
          <a:stretch/>
        </p:blipFill>
        <p:spPr>
          <a:xfrm>
            <a:off x="1644480" y="2637000"/>
            <a:ext cx="5892840" cy="1652400"/>
          </a:xfrm>
          <a:prstGeom prst="rect">
            <a:avLst/>
          </a:prstGeom>
          <a:ln w="0">
            <a:noFill/>
          </a:ln>
        </p:spPr>
      </p:pic>
      <p:sp>
        <p:nvSpPr>
          <p:cNvPr id="116" name="矩形 485387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9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二十四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86403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一、复习旧知，回顾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657360" y="1730520"/>
            <a:ext cx="81453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任意选取其中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位数，一共能组成几个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03440" y="4001400"/>
            <a:ext cx="7929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都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703440" y="4525560"/>
            <a:ext cx="7929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一共能组成几个？你是怎么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77189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98600" y="4709520"/>
            <a:ext cx="7929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问：“其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”是什么意思？“求和”指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0040" y="5200200"/>
            <a:ext cx="657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数有几种可能”是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01480" y="41230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问题：你都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审读题意，交流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78214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任意选取其中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求和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数有几种可能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78215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79233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任意选取其中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求和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数有几种可能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3"/>
          <p:cNvSpPr/>
          <p:nvPr/>
        </p:nvSpPr>
        <p:spPr>
          <a:xfrm>
            <a:off x="5951520" y="2535120"/>
            <a:ext cx="13590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4"/>
          <p:cNvSpPr/>
          <p:nvPr/>
        </p:nvSpPr>
        <p:spPr>
          <a:xfrm>
            <a:off x="7318440" y="2521080"/>
            <a:ext cx="787320" cy="576000"/>
          </a:xfrm>
          <a:prstGeom prst="ellips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5"/>
          <p:cNvSpPr/>
          <p:nvPr/>
        </p:nvSpPr>
        <p:spPr>
          <a:xfrm>
            <a:off x="434880" y="3100320"/>
            <a:ext cx="2836800" cy="652680"/>
          </a:xfrm>
          <a:prstGeom prst="ellipse">
            <a:avLst/>
          </a:pr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00040" y="4717440"/>
            <a:ext cx="7929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完整地说一说这道题是什么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审读题意，交流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79240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尝试探究，初步体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00040" y="4716000"/>
            <a:ext cx="813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得数有几种可能？请你写一写、画一画，自己试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260360" y="5209560"/>
            <a:ext cx="5357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巡视，选取典型案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80261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任意选取其中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求和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数有几种可能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80262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过程交流，渗透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5560560"/>
            <a:ext cx="657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得数有几种可能？你是怎么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00040" y="4588920"/>
            <a:ext cx="657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是怎么想的？和小伙伴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389240" y="5042880"/>
            <a:ext cx="5357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巡视倾听，选取典型案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81286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任意选取其中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求和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数有几种可能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81287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四）回顾过程，体会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4569120"/>
            <a:ext cx="831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问题：解决这个问题，大家可以怎样想呢？我们一起来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刚才同学们的好办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82308"/>
          <p:cNvSpPr/>
          <p:nvPr/>
        </p:nvSpPr>
        <p:spPr>
          <a:xfrm>
            <a:off x="466560" y="2494080"/>
            <a:ext cx="85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任意选取其中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求和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数有几种可能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82309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圆角矩形 16"/>
          <p:cNvSpPr/>
          <p:nvPr/>
        </p:nvSpPr>
        <p:spPr>
          <a:xfrm>
            <a:off x="1000080" y="3743280"/>
            <a:ext cx="7286760" cy="1214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13"/>
          <p:cNvSpPr/>
          <p:nvPr/>
        </p:nvSpPr>
        <p:spPr>
          <a:xfrm>
            <a:off x="981000" y="2421000"/>
            <a:ext cx="728676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五）对比分析，提升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08000" y="5293800"/>
            <a:ext cx="814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观察我们研究过的两道题，你有什么发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71440" y="2519280"/>
            <a:ext cx="69440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任意选取其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组成两位数，一共能组成几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166760" y="3852720"/>
            <a:ext cx="70484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任意选取其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求和，得数有几种可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08000" y="5769000"/>
            <a:ext cx="8745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都是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三个数中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怎么一个能组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却只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可能啊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爆炸形 1 17"/>
          <p:cNvSpPr/>
          <p:nvPr/>
        </p:nvSpPr>
        <p:spPr>
          <a:xfrm>
            <a:off x="5859360" y="2805120"/>
            <a:ext cx="1285920" cy="928800"/>
          </a:xfrm>
          <a:prstGeom prst="irregularSeal1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爆炸形 1 18"/>
          <p:cNvSpPr/>
          <p:nvPr/>
        </p:nvSpPr>
        <p:spPr>
          <a:xfrm>
            <a:off x="4762440" y="4148280"/>
            <a:ext cx="1285920" cy="928440"/>
          </a:xfrm>
          <a:prstGeom prst="irregularSeal1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83339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484353" descr="98-1"/>
          <p:cNvPicPr/>
          <p:nvPr/>
        </p:nvPicPr>
        <p:blipFill>
          <a:blip r:embed="rId1"/>
          <a:stretch/>
        </p:blipFill>
        <p:spPr>
          <a:xfrm>
            <a:off x="4510080" y="1989000"/>
            <a:ext cx="4037040" cy="2722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方法，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11280" y="4977000"/>
            <a:ext cx="8072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每两个人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一共握几次手？请你画一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写，自己试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11280" y="6190560"/>
            <a:ext cx="807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一共握几次手？你是怎么知道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92040" y="1496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基本应用，巩固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11280" y="4525560"/>
            <a:ext cx="807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都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495440" y="5746320"/>
            <a:ext cx="507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巡视，指导帮助学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84361"/>
          <p:cNvGrpSpPr/>
          <p:nvPr/>
        </p:nvGrpSpPr>
        <p:grpSpPr>
          <a:xfrm>
            <a:off x="360360" y="2370240"/>
            <a:ext cx="4140360" cy="1414440"/>
            <a:chOff x="360360" y="2370240"/>
            <a:chExt cx="4140360" cy="1414440"/>
          </a:xfrm>
        </p:grpSpPr>
        <p:pic>
          <p:nvPicPr>
            <p:cNvPr id="103" name="图片 484362" descr="男天使副本"/>
            <p:cNvPicPr/>
            <p:nvPr/>
          </p:nvPicPr>
          <p:blipFill>
            <a:blip r:embed="rId2"/>
            <a:stretch/>
          </p:blipFill>
          <p:spPr>
            <a:xfrm>
              <a:off x="360360" y="23702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圆角矩形标注 484363"/>
            <p:cNvSpPr/>
            <p:nvPr/>
          </p:nvSpPr>
          <p:spPr>
            <a:xfrm>
              <a:off x="1908000" y="3017880"/>
              <a:ext cx="2592720" cy="456840"/>
            </a:xfrm>
            <a:prstGeom prst="wedgeRoundRectCallout">
              <a:avLst>
                <a:gd name="adj1" fmla="val -62726"/>
                <a:gd name="adj2" fmla="val 643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每两个人握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</a:t>
              </a:r>
              <a:r>
                <a:rPr b="0" lang="zh-CN" sz="18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次手，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lang="zh-CN" sz="18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人一共握几次手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484364"/>
          <p:cNvSpPr/>
          <p:nvPr/>
        </p:nvSpPr>
        <p:spPr>
          <a:xfrm>
            <a:off x="1872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40:39Z</dcterms:created>
  <dc:creator>PC</dc:creator>
  <dc:description/>
  <dc:language>en-US</dc:language>
  <cp:lastModifiedBy>万润仪器贸易公司</cp:lastModifiedBy>
  <dcterms:modified xsi:type="dcterms:W3CDTF">2018-09-01T10:40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